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9772-FD45-44E2-8204-9AFC774E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F9D-D68B-440F-8C68-A363C76A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7E412-C8E9-4DC9-89C2-6D7B4468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5781E-D1C6-4BE2-98A4-7DB2877B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9B17E-C28A-4DAF-AE63-F7640AF3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9B373-82BB-4ABD-A22D-B75C6CDA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9ED78-686C-43A2-8D0B-9011E2DE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271A2-BE7E-4314-A95F-90B263B9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8429E-1F24-49AC-BAD2-606D5AFE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FD0B0-BDE5-4F95-AF90-53DE58EA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8AF24-F58A-42E0-99AC-825F1C31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453D5-22F0-4625-B668-B6653B67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D1E-93C6-4FCB-BE37-74ACE590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5327D-390F-4A49-AE26-1FB0FA68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F223E-0625-4893-BC53-AABC8736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C155B-3128-4D28-BCD1-2BF90511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138EA-0B44-48CD-84C7-4DBE70C2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5A78A-51C2-4FCF-B19A-4F78EA2C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BA337-B8C8-435B-92BA-868AC266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D1334-D8B1-43B6-9E6D-69888FBD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BA9AE-D5DB-45B4-80BA-B096CA58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1198C-310B-4E68-B831-7ADCDA03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8FAD5-F528-442E-B2C7-4E26518F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7887-9A4C-41DA-A9A8-0B35CBDB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10325-413A-4186-988C-D48253F0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F1F90-1D87-43F4-B29A-06C29BE6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CCDFB-2803-4593-820B-018FB913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7819E-053F-4374-BE37-502729D6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E6DD6-329B-43EB-A236-D588114B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39604-D52B-455C-9B66-0EB34F06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3F1CA-6BDC-4399-92C2-0176AD4C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4CC30-87F9-4893-AFA2-11CF4BC3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10F8A-E57D-4A59-B58B-207A0C0F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C8265-4AA7-4F1E-AFF8-D7E0EA37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DA1A-104F-41AF-BA04-1FA90BFD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BD11B-19FC-47B7-B371-FE70B8A8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01807-B5C9-4DFE-AC98-A888B233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D80A8-2FFC-474B-BDD6-1DA5663C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2175F-15B9-44BA-8F1C-1ED2E951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F3732-3A6A-4CDA-A9C7-849EF0CA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03A17-E4EE-42D3-A083-11660541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877BB-FB7D-41F7-8AFE-D6929F3B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9BDAF-D81D-4FD9-AD55-96E75900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76B2E-9257-4EEC-9E16-C43099A1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C830A-EDD2-4F4C-A407-12B39293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C08C-A108-4136-B10B-687D9C47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6CF24-323F-4089-9593-3CB31644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81317-067F-4EB2-8F74-7BE71CAD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1DB7A-8DC1-498F-8CE5-5925A495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101A2-46D5-46AD-82EB-514ABBAE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CA376-1237-43EF-B611-0BD67E7E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20B0F-AC22-42E2-AB59-F831A441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87EC8-155C-4F60-A669-EC1C89A2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E4A22F-81AD-4A85-A5E1-5E8394E3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03833-75BB-4502-8D52-A944C154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5DF033-5014-4904-91A1-2110C21E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BF44-A572-4000-8FF6-7E38FA38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08B2C1-AA69-41C3-9AFC-BF33B7E9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A8035-0730-48C6-AEF7-D46BCB70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49F80-BD0F-4404-8B0F-98E683E6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D79198-4041-4B7F-9356-333B8740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97AD3-35B5-4837-8817-DBED9416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502402-9A7D-4DED-B1A5-C0CA9B42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B27D5-5F4D-4C64-90CA-224689CB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6A3D2-68BB-445D-B1AB-DFC97256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7DD65B-1FEF-4B6B-A361-094F9EEC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DB9E14-5F75-411B-B4FA-66602C12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159B-281F-41B5-A58E-49387259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DD6C6-4447-45C9-AF01-AE7E1681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2CAB75-A78A-450B-A73F-D8360982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A1F67E-0B83-4AE0-812E-33E8AE53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66806A-9FE9-4E05-9DC9-06965E14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09B789-A75C-4F65-9AD8-330762B7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81DE1-7365-4297-955E-942BF3E5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37A559-DFDA-487C-8457-7FBA70A9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EBF1D5-6B2C-4E6F-A6DC-520802F2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486F52-32BD-45DC-96A1-D447FD13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85C6B3-3037-4ABD-9474-D435E74F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1682-2D25-451A-B511-1F523537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3D467-F8D8-4EAC-A402-B05A56FF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CFFC9C-4828-4A4E-91A2-48DAF82C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5AC383-C4D0-46AC-8668-5A3EF7A1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6151B3-B295-42B8-8B0E-03E5739B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AC503E-EE0F-4F9B-82C6-862938B4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954BD9-5363-4BDC-B196-ABDAD683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3F6129-7C6C-41B9-AEF4-D68FC159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FF0C06-7A53-4C4E-BE73-E9D82924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E0FE8E-CC10-4AAE-839E-09F810DE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7C5101-AF28-4634-A198-A4A5C57F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5BE2-C6E4-4BDA-BF7A-E22C5299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A53810-5EEA-462A-94A1-588B5AB9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3FDA51-165D-4356-B0CA-36898B8A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5E9D6D-D11C-4682-9DAB-A495C4D1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1FE267-34AA-43BD-B437-BAD54EEE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D9E76E-EF5E-4F3D-A8AE-5D1E8FDB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7895AF-E4CE-4C57-8EEC-FECEBF78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0D5934-CF23-4287-AFC6-49A21251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F84269-CAE2-4CA8-93A2-987E874C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7EC062-BB5F-4025-9503-3B560B86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35AA53-9ED0-44C2-883B-D3B44D2D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11B4-8E64-4A03-8AEB-E46412C4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E6AA56-C421-4B0A-9010-893643D6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5A0A04-2158-41B4-B679-362B85E2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2F21FE-B015-4494-A0D5-9628CD07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428B22-5A18-46E8-8828-7FEB8676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665292-335C-419E-847A-928F1B43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0E2D06-187A-4137-AE15-DCA5FCE3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88A629-107D-4E4C-89F1-BA1C931B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1AD9FF-88BE-42A9-8EAE-48D0B42B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541A70-A33C-43C4-9DA7-AC21C7C8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AD3740-79BC-4CBB-9A8A-C5FDB393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660-31A4-49F2-9F8D-2090FE7B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6C3B-CB6E-4A20-898B-18F63D89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CD399B-79B7-4AC5-821C-A40396D1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ABE364-ECB5-4F51-9D44-7D57575F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B52823-06A4-4A5F-8EEA-27C055F9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26DE88-9843-4F98-9D68-4E878C34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CDA092-FB72-4371-A7D5-98C75847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60AFFE-937B-41B1-84ED-04A6C282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FAAA2A-039E-4998-B433-5184EA22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3BFE4F-745B-49F2-8E5D-DC2A8E7C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BD8976-4697-4A69-8308-DE004540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268C78-AFB6-45CC-AA6E-2593927E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8F9B-E986-42EB-9C21-E3B1BE60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28428B-3886-4D1D-A89D-A13F78DC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6F266D-6133-4B56-AE03-448CB0BA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F65822-321E-4F9F-99E0-187DFF11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7AB873-F225-4664-84EE-43061930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05D434-1F21-400D-BE7E-6A0BC327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2EBEF4-1DB6-47C7-B743-F2143A8E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7D7434-CD82-4548-8757-3EA97812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F849CE-AACA-4B70-B32F-BF78DAF3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0652D0-07CE-4B2C-80F8-E32BAE30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9B039B-7405-4B60-9010-645DB373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67E8-629D-4B7B-877B-EF072EE9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2D3CE1-CD76-4793-A39C-DA53E056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5148C2-C8D6-483E-B008-CFF9C99C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1BF3F4-FA3B-430C-819B-DE2FBB05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514964-824B-4D2E-83D3-86798B89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9FF7AA-9507-4886-8FAF-7470FB26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3FCF0E-99EC-4998-9467-7A3C74B4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3EF28B-E7B3-481A-88B1-F758182E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2BF3D6-47F8-4F5F-B363-2E3D10AE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F99CEA-E95A-4E69-AF9F-F056BA76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CAE80F-D8AA-4A10-8FCF-4C966CA2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D994-5FFF-4F25-944D-3B432E48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6A603A-3D1B-41B5-BD80-D8D7F6F5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117694-9076-4AAF-8B3A-7D7840D6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B61E6E-292D-46EA-B4EA-844AF03B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16A86E-5E67-41FF-9FA1-41AB505B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3D386E-D359-4687-9716-2264517E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C80726-201A-4AFA-A84E-FB699355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E14365-7A00-4E3F-8C04-FB921C51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42EA9F-F647-418E-9F5B-49761990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7D8F81-6AC9-468B-B3AF-8746C255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3A0153-9BD8-4D28-AE75-D051E8B4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CB3E-4BEE-4201-B9AF-37210F63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5BCBFA-93D8-4766-9DEF-18DAA0A2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9D5F03-2A48-44C6-AB79-3C7033D0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8E4D2A-5ED5-4EB3-BB09-4523E647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37FD15-27FE-493A-9B4A-1603F2C9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9B7A26-4743-4E9E-A132-0E9E3DE7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31C08D-2CDF-4A32-A105-2AFA0A4B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144349-58DE-45EA-B86D-C3579C1D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ACE9C5-73C8-411A-84CE-9F683473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4FC4CA-7CEE-430F-96DD-73ABCF5F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2A6F91-5502-425E-ADA4-D6C748BE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65C7A-5495-4155-A3FD-C97C9FD3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8504C1-1A71-4BAC-A6AE-240E4B98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542CF3-D1E1-4635-8789-7E5BE56E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198BF6-D339-4A56-B33C-65CCB8FB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39DA7-EB50-4357-AD3F-82A3B751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BAD32-AC32-4CB6-85C2-71300744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20778-B218-4482-A899-C6000CBC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CAD2A-2671-427C-8D34-B353F221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586D-FD07-4D8D-A791-29433E20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BCC5B-E9FB-4644-A3D9-22B56BDC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F4991-EBE0-4266-877C-4BA4D275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47FE2-E3E7-4202-9088-22DE5E8B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3F160-E3AF-4F60-AD82-15520B3F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AE7C9-E727-46AE-A826-21DF89E4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32B58-4EDC-48F9-A277-1ECFA097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ABB07-2B68-4F11-9325-093C4CE7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A9AA8-46BA-49D8-B6C9-813041EE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B3135-6B0F-4E77-9AD2-742D3AEE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165FB-7AC6-4C21-A3E3-D7B7E759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AB8-CE5E-46B9-8171-7F6F1709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21EEF-68A6-4CD0-9EF6-F8184C9A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7D0CB-9FDE-4AF5-B0F3-173A23BB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A473C-CEC3-4577-812E-D70A015F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891FC-C33A-41EF-B046-B016E1A8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2142A-54B3-47C8-BD6E-88EFFAEF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7C38C-8506-4927-9723-2D5F8A8C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891B7-CFC2-4D6E-8639-AE27DCD8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F12DF-CC4B-4124-8347-92DAC4EB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78526-3BF8-4862-9616-4F276CF8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0CCF4-CDB5-45FE-8CBA-2A74EF8D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BCA-6044-4549-BA4A-23E75BCE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FC7CD-73A4-4DD0-957D-66181635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4A0A7-75C5-4F95-A36E-73FDF1CA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69F31-5A07-4844-B3EE-41E766D4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AF1C3-2795-4E16-ABDC-E79798C6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93F44-76CD-46E1-BF8A-AD906055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70C49-92AF-44AD-B3BC-1DC08693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B18EF-8289-4BC5-8F25-E4B1223B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FA2A1-9FC5-429A-8325-69145F6B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C2643-1146-4AB8-B803-B47E2B28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9CD88-6CC6-4E3E-8E7D-EBEB56F5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A74-8132-4C15-B1FD-C8844A79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F4499-803C-4851-82A6-64D353A7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362A2-7456-4113-B94E-7919D94D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7D691-C130-4AA3-BAD0-DAE0D9E3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74198-CA8F-44C8-8FB6-0AA9C70C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A382F-6B3E-4CEE-AA05-CC97B10B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36E5D-1573-4AB4-AE54-0F049610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FA0C5-CD1C-49BC-9BC5-1BB3D2AC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331DC-0972-479B-A57B-AF1E83E2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7BECC-FB17-4748-A0D0-3102A847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63DA0-5E59-4652-AA58-D2CBFED2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BED-D974-4F29-A051-F1EC5CAA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6411E-F93F-4DA1-8B93-79218AE7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771EF-A48B-4EF9-90E3-F99BFB37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257D3-FE81-4546-9C4B-53949C33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983E7-1189-4A3A-97DC-90821AC5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112F1-D816-4B97-A2D4-F5A096F6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2B557-45C4-40F3-B92C-98AB7263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151E6-60EA-4A71-A237-9C955D08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5252A-C41D-47F3-A215-F2805594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9D261-20F2-4BD0-8DCC-628A1B17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8E1DD-AB36-4B5C-B503-BE6076E2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64C-B1E9-41D3-8DBC-054E6A8F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1433B-D1BA-42FA-8D24-B200CD7B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6263D-D4E4-4188-8BC5-FD95745A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1C9E8-82B1-4033-A925-688F775C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3C796-466A-49A1-82B8-6E88CA68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A3B67-44F0-4F40-8256-9E2EF672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CBB4D-EA1F-4A65-9FD2-28F70006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C599D-14E0-4B30-B7DB-C743A4FA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35AC6-BA85-4515-8414-449D42E1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72168-F0C9-4841-985E-1E70EFA8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DB570-A671-440F-B566-F8D66B71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B27-8AD7-4EBA-85F1-5ECECCB0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4D9C1-A067-4A39-83AB-E85D1B63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396DD-2628-43FF-925B-8E66D2B3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AC077-E693-49DB-B5D1-8604735D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B537B-E38B-45B0-9910-28B697BD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BD1EC-0D51-410F-9E61-55B42ACD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11DBD-8F76-400D-9687-DC0E7444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6FF9C-0A8A-4827-AC5C-AC625A65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9C7F5-9CAD-4B6D-9C18-DBA08B86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141D6-F680-4CAC-ABB6-03A4823D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1221E-4B78-41B3-9A63-30BC54F2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7BF6-3475-467B-8F99-2BCE04EC0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2E4C-4616-4068-A628-213CB5E51A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BAAD-F349-4B13-8B98-615D3B68BD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FE3C-5102-4771-9190-08F1E59110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AB89-ED19-4E56-8A22-3619299943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7CE5-A67B-472D-AE9D-7B39D12FD4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7BB8-6AEE-4A32-8AED-525A5D739B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E236-1007-486D-BA5A-62BAAC2D70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7C0B-7BCE-43BB-9352-A43FEF7DBE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B275-8227-462A-8F06-127A56390F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C47D-0501-4F6A-ABD8-BC8E9FCC37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4688-37B9-4B47-A30A-5D80701871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4901-DDF1-40FA-A399-87929DAE27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8217-9FFE-4E9C-B3C7-BD5792FB9B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3B1F-645C-4EDC-929D-2437F79E86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44C9-83A8-4193-AFD3-B28ACB6403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B2A0-0CB7-4071-9C28-BCFB1F293A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8436-F6C9-43F0-9D5A-F318894AF9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025F-C8B1-48D7-9066-2326D17C61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CF09-D34D-4383-A20C-C9E5463F3A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1D11-E319-4DE9-9B3B-467E295ABC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7CB1-61D4-453F-AC47-8D9711B693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B5AF-C187-4563-8CD5-348760CFA6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587D-A069-43D6-93C5-7E4D155B71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3B35-BFCE-4AC2-8EC6-97636A521B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2848-94EB-4CE5-A956-7BE64A2411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55D4-07B1-4DA4-8CF4-C74EEC5FA9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7C36-D4B3-4EDA-827C-97158998E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28F2-F5E2-46D9-898A-F5315CCBD5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1D53-FA28-4438-912B-02A402C10F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E2AA-24A1-481E-B905-B166D16709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F58C-FCBC-4A3F-B5B3-D55785D233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836C-4FF6-451A-8E8E-F62548D373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9BE3-DD50-4F2B-B734-03B3859FAF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B789-FAB9-4BF5-8BB8-781B562E2C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FC90-D82F-498F-9277-38707CF74E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DBF7-405F-432B-B603-CB76D14C90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689C-76D6-4F70-83A8-CAB8180D81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5FCD-313C-4F6E-A5A7-13D9292A88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00F1-8885-4814-AD86-9D601D17E9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804960" y="3057480"/>
            <a:ext cx="75340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190440" y="1623960"/>
            <a:ext cx="8763120" cy="36100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505080" cy="4489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187280" y="2852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187280" y="4076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187280" y="472428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2" descr=""/>
          <p:cNvPicPr/>
          <p:nvPr/>
        </p:nvPicPr>
        <p:blipFill>
          <a:blip r:embed="rId1"/>
          <a:stretch/>
        </p:blipFill>
        <p:spPr>
          <a:xfrm>
            <a:off x="743040" y="1085760"/>
            <a:ext cx="7657920" cy="468648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5122" descr=""/>
          <p:cNvPicPr/>
          <p:nvPr/>
        </p:nvPicPr>
        <p:blipFill>
          <a:blip r:embed="rId2"/>
          <a:stretch/>
        </p:blipFill>
        <p:spPr>
          <a:xfrm>
            <a:off x="3276720" y="3284640"/>
            <a:ext cx="1224000" cy="53316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5123" descr=""/>
          <p:cNvPicPr/>
          <p:nvPr/>
        </p:nvPicPr>
        <p:blipFill>
          <a:blip r:embed="rId3"/>
          <a:stretch/>
        </p:blipFill>
        <p:spPr>
          <a:xfrm>
            <a:off x="4356000" y="4738680"/>
            <a:ext cx="122400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1428840" y="1928880"/>
            <a:ext cx="6286320" cy="300024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6146" descr=""/>
          <p:cNvPicPr/>
          <p:nvPr/>
        </p:nvPicPr>
        <p:blipFill>
          <a:blip r:embed="rId2"/>
          <a:stretch/>
        </p:blipFill>
        <p:spPr>
          <a:xfrm>
            <a:off x="2556000" y="2363760"/>
            <a:ext cx="1224000" cy="58752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6147" descr=""/>
          <p:cNvPicPr/>
          <p:nvPr/>
        </p:nvPicPr>
        <p:blipFill>
          <a:blip r:embed="rId3"/>
          <a:stretch/>
        </p:blipFill>
        <p:spPr>
          <a:xfrm>
            <a:off x="3376440" y="3846600"/>
            <a:ext cx="1224000" cy="5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19080" y="912960"/>
            <a:ext cx="9105840" cy="55134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2771640" y="4724280"/>
            <a:ext cx="597708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2771640" y="5776920"/>
            <a:ext cx="5977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5:49Z</dcterms:modified>
  <cp:revision>3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